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180-207D-460B-B176-1DA3368C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19D-0B78-4D9B-8C0E-1EE3CED5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8C7-74B2-41DA-ADD2-9F6CB0C0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595-D338-4E90-836A-5754E579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918-CE1E-4C57-A6DE-D32ED844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72F-5614-49EE-803B-491D7B4C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F1E-4EFB-4A44-BB99-2E416FF4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B04-135D-47D2-94D0-E9834C22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AF5-FE68-4014-AC07-F3D74287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119-6EEB-40E2-B9E8-72172F9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D12-F78C-4129-8AEC-272F348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09F-8FC2-4E6D-B70A-52BD133B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선 연결선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직선 연결선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직선 연결선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ko-KR" sz="3600" spc="-1" strike="noStrike" cap="all">
                <a:solidFill>
                  <a:srgbClr val="4e3b30"/>
                </a:solidFill>
                <a:latin typeface="Franklin Gothic Medium"/>
              </a:rPr>
              <a:t>마스터 제목 스타일 편집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ko-KR" sz="3200" spc="-1" strike="noStrike">
                <a:solidFill>
                  <a:srgbClr val="4e3b30"/>
                </a:solidFill>
                <a:latin typeface="Franklin Gothic Book"/>
              </a:rPr>
              <a:t>마스터 텍스트 스타일을 편집합니다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ko-KR" sz="2800" spc="-1" strike="noStrike">
                <a:solidFill>
                  <a:srgbClr val="4e3b30"/>
                </a:solidFill>
                <a:latin typeface="Franklin Gothic Book"/>
              </a:rPr>
              <a:t>둘째 수준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ko-KR" sz="2400" spc="-1" strike="noStrike">
                <a:solidFill>
                  <a:srgbClr val="4e3b30"/>
                </a:solidFill>
                <a:latin typeface="Franklin Gothic Book"/>
              </a:rPr>
              <a:t>셋째 수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ko-KR" sz="2000" spc="-1" strike="noStrike">
                <a:solidFill>
                  <a:srgbClr val="4e3b30"/>
                </a:solidFill>
                <a:latin typeface="Franklin Gothic Book"/>
              </a:rPr>
              <a:t>넷째 수준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ko-KR" sz="1800" spc="-1" strike="noStrike">
                <a:solidFill>
                  <a:srgbClr val="4e3b30"/>
                </a:solidFill>
                <a:latin typeface="Franklin Gothic Book"/>
              </a:rPr>
              <a:t>다섯째 수준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3CEA4D-FAA4-426F-9808-72C57846CE08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785880"/>
            <a:ext cx="8686440" cy="52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2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ko-KR" sz="8800" spc="-1" strike="noStrike">
                <a:solidFill>
                  <a:srgbClr val="4e3b30"/>
                </a:solidFill>
                <a:latin typeface="HY수평선M"/>
                <a:ea typeface="HY수평선M"/>
              </a:rPr>
              <a:t>지금은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2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ko-KR" sz="88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기도시간 입니다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영원한 생명 말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예수 그리스도 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호산나 다윗의 자손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호산나 불러 왕 중의 왕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많고 많은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람들이 찾았었네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헛되고 헛된 것들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안에 감추인 보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 것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난 비길 수 없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님 채우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잔을 높이 듭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양식 내게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넘치도록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친구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거기서 돌아오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주의 넓은 품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주님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를 반겨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넓은 품에 안아주시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님 채우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잔을 높이 듭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양식 내게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넘치도록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31860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열방교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김유신 목사님 가정을 위한 기도</a:t>
            </a: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역에 지치지 않는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힘과 능력을 주시옵소서</a:t>
            </a: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(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가정</a:t>
            </a: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)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역자에게 열정과 교회 부흥을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시옵소서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물질적으로 어렵지 않게 하옵소서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늘도 하룻길 나그네 길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혼자 가야 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멀고도 험한 길 나그네 길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혼자 가야 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혼자 가야 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 아 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갈래갈래 갈림길 길이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주신 주의 길 따라가려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갈래갈래 갈림길 길이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주신 주의 길 따라가려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높은 하늘엔 영광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예수 주 메시야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집은 갈릴리 해변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푸른 풀밭 쉬어 갈 수 있는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사명 다하기까지 갈 수 없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리운 내 본향 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리운 내 본향 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 아 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갈래갈래 갈림길 길이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주신 주의 길 따라가려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갈래갈래 갈림길 길이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주신 주의 길 따라가려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3444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1" lang="ko-KR" sz="70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교회의 비전을 위하여 </a:t>
            </a:r>
            <a:endParaRPr b="0" lang="en-US" sz="70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1" lang="ko-KR" sz="70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기도하겠습니다</a:t>
            </a:r>
            <a:endParaRPr b="0" lang="en-US" sz="70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훈련되고 준비된 성도가 되게 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미래를 향해 도약하는 교회가 되게 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회자와 성도가 더불어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역하는 교회가 되게 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지역을 이끌어 가는 교회되게 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부흥을 허락하시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2011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년도 출석교인 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300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명을 주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진리 위해 십자가 군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높이 들고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군사 되어 용맹스럽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찬송하며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가세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예수 만을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숨까지도 바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싸움터로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원수들이 비록 강할지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군기 붙잡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진리 위해 용기 다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분발하여 싸우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가세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예수 만을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숨까지도 바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싸움터로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산과 들과 바다 가는 곳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군기 날리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반갑고도 기쁜 승리의 소식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온 세상에 전하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가세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예수 만을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숨까지도 바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싸움터로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원수들은 이미 예수의 손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 없이 패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군기만이 영광스럽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온누리에 날리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가세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예수 만을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숨까지도 바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싸움터로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 algn="ctr">
              <a:lnSpc>
                <a:spcPct val="11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ko-KR" sz="48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일 오전에 있을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ko-KR" sz="48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새가족 섬김이 학교와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ko-KR" sz="4800" spc="-1" strike="noStrike">
                <a:solidFill>
                  <a:srgbClr val="4e3b30"/>
                </a:solidFill>
                <a:latin typeface="HY수평선M"/>
                <a:ea typeface="HY수평선M"/>
              </a:rPr>
              <a:t>여름행사를 위하여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ko-KR" sz="48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기도하겠습니다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유ㆍ초등부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,</a:t>
            </a: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중ㆍ고등부</a:t>
            </a:r>
            <a:endParaRPr b="0" lang="en-US" sz="43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청년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1</a:t>
            </a: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ㆍ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2</a:t>
            </a: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부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(</a:t>
            </a: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수련회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)</a:t>
            </a:r>
            <a:endParaRPr b="0" lang="en-US" sz="4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죄에서 자유를 얻게 함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혈의 능력 주의 보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시험을 이기는 승리되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놀라운 능력이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능력 있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피 믿으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 그 어린양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매우 귀중한 피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육체의 정욕을 이길 힘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혈의 능력 주의 보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정결한 마음을 얻게 하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놀라운 능력이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능력 있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피 믿으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 그 어린양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매우 귀중한 피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눈보다 더 희게 맑히는 것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혈의 능력 주의 보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부정한 모든 것 맑히시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놀라운 능력이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능력 있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피 믿으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 그 어린양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매우 귀중한 피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285840" y="357120"/>
            <a:ext cx="964368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정결한 마음 주시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정직한 영을 새롭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주의 복음을 전할 제목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혈의 능력 주의 보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날마다 나에게 찬송 주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놀라운 능력이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능력 있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피 믿으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 그 어린양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매우 귀중한 피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환우 분들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일예배를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를 주님 앞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멀리 하지 마시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성령을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거두지 마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구원의 기쁨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시 회복시키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변치 않는 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안에 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아버지 그 거룩한 사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들의 생명 보내 주시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피로 주 앞에 나아가오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여호와여 구원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안에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한 성령 부으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사랑할 때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 보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앞에 선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저 푯대 향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복음 위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힘써 싸우겠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께서 당신을 통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메마른 땅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샘물 나게 하시기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날에 예수 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시 오셔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과 땅 모든 권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위엄 나타내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좌 위 영광 빛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흘러 넘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흘린 눈물 모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새 찬양 되겠네 그날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아들아 내 사랑하는 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너희를 기뻐하노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여 당신께 예배하오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여호와여 임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안에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한 소망 있으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진리 되신 예수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여기 계시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부르신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땅 위에 서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이름 위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크게 외치겠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날에 예수 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시 오셔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과 땅 모든 권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위엄 나타내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좌 위 영광 빛 흘러 넘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흘린 눈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모두 새 찬양 되겠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날에 주의 영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나라 임하겠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순전한 나의 삶의 옥합 깨뜨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께 모두 드리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가장 귀한 것 주께 드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주님 예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힘을 다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날을 예비하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가 보고 그 사랑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것 삼으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가난한 영혼 목마른 영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을 통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사랑 알기 원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기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소망 나의 모든 것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눈물로 주님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간구 하오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기도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소망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모든 것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여 나를 기억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두 손 들고 찬양합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시 오실 왕 여호와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직 주만이 나를 다스리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주님만을 섬기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헛된 마음 버리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성령이여 내 영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충만하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님 앞에 내 생명 드리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시냇가에 심은 나무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의 사랑 안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믿음 뿌리 내리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뜻대로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뜻대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항상 사세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시절을 좇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원 열매 맺으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영화로운 빛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를 보호하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뜻대로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뜻대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항상 살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바 아버지 아바 아버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를 안으시고 바라보시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바 아버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바 아버지 아바 아버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를 도우시고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힘 주시는 아버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내 맘을 고치시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볼 수 없는 상처 만지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를 아시고 나를 이해하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영혼 새롭게 세우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함께 기도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앞에 나와 무릎 꿇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긍휼 베푸시는 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을 향해 두 손 들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285840" y="357120"/>
            <a:ext cx="971532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문이 열리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은혜의 빗줄기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땅 가득 내리도록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마침내 주 오셔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의의 빗줄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위에 부으시도록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께 힘을 얻고 그 마음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시온의 대로가 있는 그대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의 축복의 사람이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님 그대를 너무 기뻐하시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손을 주께 높이 듭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찬양 받으실 주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맘을 주께 활짝 엽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찬양 받으실 주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집에 거하기를 사모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를 항상 찬송하는 그대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의 축복의 사람이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님 그대를 노무 사랑하시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대 섬김은 아름다운 찬송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대 헌신은 향기로운 기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대가 밟는 땅 어디에서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님의 이름 높아질거에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어두운 밤에 캄캄한 밤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새벽을 찾아 떠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종이 울리고 닭이 울어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눈에는 오직 밤이었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여 당신께 감사하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실로암 내게 주심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이제 영원한 이 꿈 속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깨이지 않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가 처음 만난 그 때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차가운 새벽이었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 눈 속에 여명 있음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는 느낄 수가 있었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여 당신께 감사하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실로암 내게 주심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이제 영원한 이 꿈 속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깨이지 않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예수 나의 첫사랑 되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첫 사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지존자 되신 그리스도 예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찬양하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좌 앞에 나의 삶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향기로운 제사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께 드려지기 원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슬픔 대신 희락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재 대신 화관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근심 대신 찬송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찬송의 옷을 주셨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직 주만 바라보며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삶을 드리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른 길은 찾지 않으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온전한 열정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찬양 되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길을 따라가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주 먼 옛날 하늘에서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을 향한 계획 있었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께서 바라보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좋았더라고 말씀하셨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세상 그 무엇보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귀하게 나의 손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창조하였노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너로 인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기뻐하노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너를 사랑하노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랑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축복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의 마음에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의 사랑을 드려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담장 너머로 뻗은 나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가지에 푸른 열매처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의 귀한 축복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삶에 가득히 넘쳐날거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어떤 시련이 와도 능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겨낼 강한 팔이 있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전능하신 하나님께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와 언제나 함께 하시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하나님의 사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름다운 하나님의 사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는 널 위해 기도하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네 길을 축복 할거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하나님의 선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랑스런 하나님의 열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품에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꽃 피운 나무가 되어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예수를 나의 구주 삼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성령과 피로써 거듭나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세상에서 내 영혼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의 영광 누리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간증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찬송일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사는 동안 끊임 없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주를 찬송하리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온전히 주께 맡긴 내 영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랑의 음성을 듣는 중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천사들 왕래하는 것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의 영광 보리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간증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찬송일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사는 동안 끊임 없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주를 찬송하리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안에 기쁨 누림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마음의 풍랑이 잔잔하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과 나는 간 곳 없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속한 주만 보이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간증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찬송일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사는 동안 끊임 없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주를 찬송하리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영광의 왕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평강의 왕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하늘과 땅의 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정의의 아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힘들고 어려운 순간을 만나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눈물로 씨를 뿌릴 수 있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믿음을 주옵소서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!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멀고 험한 이 세상 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소망 없는 나그네 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방황하고 헤메이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정처 없이 살아왔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의지 할 것 없는 이 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위로 받고 살고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 유혹 따라가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모든 것을 다 잃었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무거운 짐 등에 지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쉴 곳 없어 애처로운 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쓰러지고 넘어져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위로할 자 내겐 없었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에서 버림 받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귀한 세월 방탕하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버지를 만났을 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죄인임을 깨달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눈물로써 회개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버지의 품에 안기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죄악으로 더럽힌 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십자가에 못 박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원함을 얻은 기쁨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에서 제일이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영광의 길 허락하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주 예수 찬양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힘이 되신 여호와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주님을 사랑합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나의 반석이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요새시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나를 건지시는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주 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피할 바위시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방패시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천사가 무릎 꿇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예배하고 찬송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영원한 생명 말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예수 그리스도 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원의 뿔이시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산성이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는 나의 여호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구세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생명이신 여호와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주님을 찬양합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나의 사랑이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의지시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나를 이끄시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길 인도하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생의 목자 되시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따를 이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생명의 면류관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씌우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는 나의 여호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구세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심야동산지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최재향 권사님 가족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물가의 여인처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난 구했네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헛되고 헛된 것들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때 주님 하신 말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샘에 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생수를 마셔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님 채우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잔을 높이 듭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양식 내게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넘치도록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트렉">
  <a:themeElements>
    <a:clrScheme name="트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078</TotalTime>
  <Application>LibreOffice/7.4.7.2$Linux_X86_64 LibreOffice_project/40$Build-2</Application>
  <AppVersion>15.0000</AppVersion>
  <Words>1425</Words>
  <Paragraphs>43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4:45:05Z</dcterms:created>
  <dc:creator>SP2.Professional</dc:creator>
  <dc:description/>
  <dc:language>en-US</dc:language>
  <cp:lastModifiedBy>SP2.Professional</cp:lastModifiedBy>
  <dcterms:modified xsi:type="dcterms:W3CDTF">2011-06-24T09:58:41Z</dcterms:modified>
  <cp:revision>111</cp:revision>
  <dc:subject/>
  <dc:title>낮엔 해처럼 밤엔 달처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화면 슬라이드 쇼(4:3)</vt:lpwstr>
  </property>
  <property fmtid="{D5CDD505-2E9C-101B-9397-08002B2CF9AE}" pid="3" name="Slides">
    <vt:r8>133</vt:r8>
  </property>
</Properties>
</file>